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dt" idx="2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move the slid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ftr" idx="2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 type="sldNum" idx="2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B79FA-3529-4DF8-B548-2069CBFE3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 thi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AEB95-1FE7-4CE5-B916-44B5A8CDA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ECE30-8A68-4750-AF49-6707BBE4E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ail address, channel name and username: derbyla2@gmail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: derbyla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word: derbymemo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0C7E0-1C26-4444-ACFA-20D2ED199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B5EBE4-8C06-4C22-9447-B38C76B0A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58E-294F-4060-8AF3-0591A949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B27A-C917-4A41-B9F1-BBABC539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75378-455F-4D5B-BEDE-E5768E2A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679F8-EF3B-46C5-97EB-353251B6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8FA932-5CC2-4624-B0DA-9238C0E6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81394C-1FFA-40BC-9EAD-CBFC5D5D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AE960A-FEC9-406F-A6F4-F5DD8A12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640F32-ECDB-4451-9B36-4502EBA2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377F91-22AB-40F9-B8E0-28CAD106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F33EE-7926-413A-B6C2-150BAF9F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E9FE7-1402-4D29-A094-390F9058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E00-66D2-40AF-AD97-2F7AF84A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B64-E546-4DDC-B918-A3522B3A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835-A137-4CCF-A99F-A4AAD3A3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A03-3995-4635-AF20-69335B97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70ADDB-FCD2-4780-8298-3604FE97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F885D5-298B-4B15-A5C9-FF073642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10366B-3ADE-4A5E-9D1D-AA0969EF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979-0D45-4DEE-8056-DE9B627B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003779-20E1-4994-919B-D47E0BF1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CF7D1E-67F6-40E1-AA46-5D61F8A8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B00BBD-905F-457E-8371-13EFE13B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D36457-C4AE-4823-B5D3-7B1CD32E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ED7530-7B0D-4406-AF50-43C1DF89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AED7B7-AC83-4652-BBE4-11974AEA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EE5872-47DC-4034-8305-01C4534B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1D62A5-CA05-4450-8533-AC4764D0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1F1CB4-D74F-485E-A4C2-35127FF6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99506E-F32F-4223-B7E9-B111DB04E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B99-F27A-44A3-917C-F5C5DDAC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0409ED-79AE-47C4-B435-53252A2D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E7311F-A233-43EC-88B4-4EB41CF3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CDD444-EBF2-4DBA-85E0-DC6521B4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253ACB-2993-46A5-AD7B-7C0BDDE7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1A0435-6DD1-4226-834F-B3AC3E49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460A07-9DD7-447F-90BA-749E7D6F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D7FA50-CA33-4B83-949D-C6C3B35E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E2CE7E-1840-47E5-A3BA-C9F64A31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8CABEA-5745-4A3B-9986-65EC2FF4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1910F7-CAF0-4B4B-A1A1-D1F4E3F7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974-AD31-4321-AE48-C614DA70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AC19AA-404D-4713-993A-F8B617D5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34E748-9950-4F1C-8195-2E003D8C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570207-264C-4393-96B8-563704F1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4189AE-4115-48BE-A38A-88D43A97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C003BD-54D8-4FF6-925B-9EF1F3CD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C30DEF-0180-47EA-B35D-2A036851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96787E-F22E-41A5-8A9C-1A760320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9106DC-946C-444B-8523-9FBAD5F8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710B41-EDC8-4917-9F7C-E5C14B2E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743319-5096-46DB-A836-AE0A18CE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EFCE-CF61-495D-B862-C9F8EADF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D6AA6B-DF3B-4FD3-940C-52AF804C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551A2C-037D-49F7-A002-683A134E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B2F0FC-FF70-4FE9-BE71-B64CCC8C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FB1A80-43C2-4BB0-9B05-B820518B6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E0AB91-9E9C-4F5B-AC0B-8E0794F8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CABFA8-5685-4F6E-9341-D6E916FF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96FA38-13AB-4CF0-93C7-3412CCCC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8B9D56-EA4C-493D-9189-A03F6E0A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38433F-F48A-49D1-A555-5B563FA5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3256ED-5E9E-457F-BD41-2C79A186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F85C-6AF3-48E8-9E6B-B7BC76FC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A295A5-CEA2-46B3-A806-5B76E3E0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F1E70F-5599-4145-BF5A-9947493F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0A7ACF-9812-4086-87CB-71886034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D8EBD6-A23C-49F8-B7C3-43BF95DA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F7C550-9C95-45D1-ABE3-3021074AE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E4686F-7C26-4E08-8A4A-496D71FA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9C3E77-D42C-4B74-B8FD-8A247810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9499F8E-FAD4-48F1-9DE9-5C978A1F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0F2C1B-69C4-4D13-856D-45CC5439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83EF45-AEA8-4872-980F-8FCCEDB9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6EA-0C3D-46FD-9C8B-3C785E96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860086-FE05-453B-9B86-C3469DEB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438DA7-10CC-4E6C-B270-90732964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384F03-EFB9-488F-B186-D88F3623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B0FBB1-623A-4D08-8E3B-8A0FD402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351E5C-C46B-4C47-B958-731411C5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7FB1BB-7B8A-42B6-814A-6E99F0FC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67DC74-6871-48C9-93CA-65DB7C27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F556AE-B351-44E2-B4FD-83FC1879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4233F7-06AF-4241-B782-FB498572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E74E16-8BE6-4CD3-9204-FF4F2422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96E27-4D42-4770-8CCB-E6A9A8F9EB07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9B37E-C3B8-4CF8-8CFB-10FAD215D002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7811B-9AA9-4A7D-B1BC-E58921BB3E70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4431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0C6275-2B68-4C7D-A2E1-3B15210324F0}" type="slidenum">
              <a:rPr b="0" lang="en-US" sz="1200" spc="-1" strike="noStrike">
                <a:solidFill>
                  <a:srgbClr val="19443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9D319E-62F7-4520-8AAA-A17C830EF965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4431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B9038-41F9-4E3B-8FD0-15FC09185969}" type="slidenum">
              <a:rPr b="0" lang="en-US" sz="1200" spc="-1" strike="noStrike">
                <a:solidFill>
                  <a:srgbClr val="19443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4EE2C5-43B2-483D-8AA8-38A67FCE02E9}" type="slidenum">
              <a:rPr b="0" lang="en-US" sz="1200" spc="-1" strike="noStrike">
                <a:solidFill>
                  <a:srgbClr val="ffffff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avlock13.wikis.birmingham.k12.mi.u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3560" y="3776400"/>
            <a:ext cx="7196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Arial Black"/>
              </a:rPr>
              <a:t>iMovie Tip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848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 Black"/>
              </a:rPr>
              <a:t>Saving Imag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20760" y="1808280"/>
            <a:ext cx="85471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Use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CopyRight Friendly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it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c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Save Pictures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(double click on the picture so you capture the picture in isolation.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c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Water Mark Fre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c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Site Sources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(Noodle Tools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377" name="Picture 5" descr="watermark sample.jpg"/>
          <p:cNvPicPr/>
          <p:nvPr/>
        </p:nvPicPr>
        <p:blipFill>
          <a:blip r:embed="rId1"/>
          <a:stretch/>
        </p:blipFill>
        <p:spPr>
          <a:xfrm>
            <a:off x="1523880" y="4098960"/>
            <a:ext cx="2676600" cy="1781280"/>
          </a:xfrm>
          <a:prstGeom prst="rect">
            <a:avLst/>
          </a:prstGeom>
          <a:ln w="50760">
            <a:solidFill>
              <a:srgbClr val="ff9d20"/>
            </a:solidFill>
            <a:miter/>
          </a:ln>
        </p:spPr>
      </p:pic>
      <p:sp>
        <p:nvSpPr>
          <p:cNvPr id="378" name="Straight Connector 7"/>
          <p:cNvSpPr/>
          <p:nvPr/>
        </p:nvSpPr>
        <p:spPr>
          <a:xfrm>
            <a:off x="1523880" y="4098960"/>
            <a:ext cx="2676600" cy="1781280"/>
          </a:xfrm>
          <a:prstGeom prst="line">
            <a:avLst/>
          </a:prstGeom>
          <a:ln w="50760">
            <a:solidFill>
              <a:srgbClr val="f83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 Black"/>
                <a:ea typeface="Arial Black"/>
              </a:rPr>
              <a:t>Posting Your iMovi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64880" y="1738080"/>
            <a:ext cx="8739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Go to </a:t>
            </a:r>
            <a:r>
              <a:rPr b="0" lang="en-US" sz="2400" spc="-1" strike="noStrike" u="sng">
                <a:solidFill>
                  <a:srgbClr val="ff621d"/>
                </a:solidFill>
                <a:uFillTx/>
                <a:latin typeface="Arial Rounded MT Bold"/>
                <a:ea typeface="Arial Rounded MT Bold"/>
                <a:hlinkClick r:id="rId1"/>
              </a:rPr>
              <a:t>http://pavlock13.wikis.birmingham.k12.mi.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2520" indent="-45252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Create a New Pag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2520" indent="-45252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Name Page: Topic + First Name, First Letter of Last Name (Can You Hear Me Now? Kim P &amp; Joanne 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2520" indent="-45252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g the page: (your hour+ hear (1hear, 2hear, 3hear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2520" indent="-45252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Create the Pag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2520" indent="-45252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ype the word Citations on the page, the click SAV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2520" indent="-45252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 the URL in your iMovie credits. Shorten the URL by going to</a:t>
            </a:r>
            <a:r>
              <a:rPr b="1" lang="en-US" sz="2400" spc="-1" strike="noStrike">
                <a:solidFill>
                  <a:srgbClr val="ff0000"/>
                </a:solidFill>
                <a:latin typeface="Arial Rounded MT Bold"/>
                <a:ea typeface="Arial Rounded MT Bold"/>
              </a:rPr>
              <a:t> bitly.com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Arial Black"/>
              </a:rPr>
              <a:t>Exporting to YouTube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rcRect l="23642" t="10497" r="23879" b="52253"/>
          <a:stretch/>
        </p:blipFill>
        <p:spPr>
          <a:xfrm>
            <a:off x="1130400" y="2008080"/>
            <a:ext cx="7246800" cy="41148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3192480" y="4346640"/>
            <a:ext cx="32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Password: derbymem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Rounded Rectangle 3"/>
          <p:cNvGrpSpPr/>
          <p:nvPr/>
        </p:nvGrpSpPr>
        <p:grpSpPr>
          <a:xfrm>
            <a:off x="3011400" y="3560760"/>
            <a:ext cx="3645000" cy="919080"/>
            <a:chOff x="3011400" y="3560760"/>
            <a:chExt cx="3645000" cy="919080"/>
          </a:xfrm>
        </p:grpSpPr>
        <p:pic>
          <p:nvPicPr>
            <p:cNvPr id="385" name="Rounded Rectangle 3" descr=""/>
            <p:cNvPicPr/>
            <p:nvPr/>
          </p:nvPicPr>
          <p:blipFill>
            <a:blip r:embed="rId2"/>
            <a:stretch/>
          </p:blipFill>
          <p:spPr>
            <a:xfrm>
              <a:off x="3011400" y="3560760"/>
              <a:ext cx="364500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3225960" y="3691080"/>
              <a:ext cx="321444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Box 4"/>
          <p:cNvSpPr/>
          <p:nvPr/>
        </p:nvSpPr>
        <p:spPr>
          <a:xfrm>
            <a:off x="3289320" y="3835440"/>
            <a:ext cx="30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byla2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94431"/>
                </a:solidFill>
                <a:latin typeface="Book Antiqua"/>
              </a:rPr>
              <a:t>Share Projec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rcRect l="20158" t="19828" r="35825" b="29842"/>
          <a:stretch/>
        </p:blipFill>
        <p:spPr>
          <a:xfrm>
            <a:off x="1828800" y="1816200"/>
            <a:ext cx="5367240" cy="4908600"/>
          </a:xfrm>
          <a:prstGeom prst="rect">
            <a:avLst/>
          </a:prstGeom>
          <a:ln w="0">
            <a:noFill/>
          </a:ln>
        </p:spPr>
      </p:pic>
      <p:sp>
        <p:nvSpPr>
          <p:cNvPr id="390" name="Left Arrow 3"/>
          <p:cNvSpPr/>
          <p:nvPr/>
        </p:nvSpPr>
        <p:spPr>
          <a:xfrm>
            <a:off x="4267080" y="3251160"/>
            <a:ext cx="1930680" cy="4939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4586400" y="3381480"/>
            <a:ext cx="161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</a:rPr>
              <a:t>Title of Pro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eft Arrow 5"/>
          <p:cNvSpPr/>
          <p:nvPr/>
        </p:nvSpPr>
        <p:spPr>
          <a:xfrm>
            <a:off x="2627280" y="4216320"/>
            <a:ext cx="4121280" cy="70344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2960640" y="4400640"/>
            <a:ext cx="378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Black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Names of Students+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ight Arrow 7"/>
          <p:cNvSpPr/>
          <p:nvPr/>
        </p:nvSpPr>
        <p:spPr>
          <a:xfrm>
            <a:off x="4267080" y="5294160"/>
            <a:ext cx="154944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-360" y="79200"/>
            <a:ext cx="89694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 Black"/>
              </a:rPr>
              <a:t>Share Project Continued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rcRect l="20019" t="20153" r="35456" b="24811"/>
          <a:stretch/>
        </p:blipFill>
        <p:spPr>
          <a:xfrm>
            <a:off x="2046240" y="1733400"/>
            <a:ext cx="4992840" cy="4937400"/>
          </a:xfrm>
          <a:prstGeom prst="rect">
            <a:avLst/>
          </a:prstGeom>
          <a:ln w="0">
            <a:noFill/>
          </a:ln>
        </p:spPr>
      </p:pic>
      <p:grpSp>
        <p:nvGrpSpPr>
          <p:cNvPr id="397" name="Left Arrow 4"/>
          <p:cNvGrpSpPr/>
          <p:nvPr/>
        </p:nvGrpSpPr>
        <p:grpSpPr>
          <a:xfrm>
            <a:off x="4395960" y="2309760"/>
            <a:ext cx="2084040" cy="622440"/>
            <a:chOff x="4395960" y="2309760"/>
            <a:chExt cx="2084040" cy="622440"/>
          </a:xfrm>
        </p:grpSpPr>
        <p:pic>
          <p:nvPicPr>
            <p:cNvPr id="398" name="Left Arrow 4" descr=""/>
            <p:cNvPicPr/>
            <p:nvPr/>
          </p:nvPicPr>
          <p:blipFill>
            <a:blip r:embed="rId2"/>
            <a:stretch/>
          </p:blipFill>
          <p:spPr>
            <a:xfrm>
              <a:off x="4395960" y="2309760"/>
              <a:ext cx="208404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4640400" y="2514600"/>
              <a:ext cx="16873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Left Arrow 5"/>
          <p:cNvGrpSpPr/>
          <p:nvPr/>
        </p:nvGrpSpPr>
        <p:grpSpPr>
          <a:xfrm>
            <a:off x="2687760" y="6175440"/>
            <a:ext cx="1719000" cy="622080"/>
            <a:chOff x="2687760" y="6175440"/>
            <a:chExt cx="1719000" cy="622080"/>
          </a:xfrm>
        </p:grpSpPr>
        <p:pic>
          <p:nvPicPr>
            <p:cNvPr id="401" name="Left Arrow 5" descr=""/>
            <p:cNvPicPr/>
            <p:nvPr/>
          </p:nvPicPr>
          <p:blipFill>
            <a:blip r:embed="rId3"/>
            <a:stretch/>
          </p:blipFill>
          <p:spPr>
            <a:xfrm>
              <a:off x="2687760" y="6175440"/>
              <a:ext cx="171900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 rot="10800000">
              <a:off x="2830320" y="6376680"/>
              <a:ext cx="133812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Left Arrow 6"/>
          <p:cNvGrpSpPr/>
          <p:nvPr/>
        </p:nvGrpSpPr>
        <p:grpSpPr>
          <a:xfrm>
            <a:off x="2987640" y="4316400"/>
            <a:ext cx="2084400" cy="620640"/>
            <a:chOff x="2987640" y="4316400"/>
            <a:chExt cx="2084400" cy="620640"/>
          </a:xfrm>
        </p:grpSpPr>
        <p:pic>
          <p:nvPicPr>
            <p:cNvPr id="404" name="Left Arrow 6" descr=""/>
            <p:cNvPicPr/>
            <p:nvPr/>
          </p:nvPicPr>
          <p:blipFill>
            <a:blip r:embed="rId4"/>
            <a:stretch/>
          </p:blipFill>
          <p:spPr>
            <a:xfrm>
              <a:off x="2987640" y="4316400"/>
              <a:ext cx="208440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3233880" y="4518000"/>
              <a:ext cx="16858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"/>
          <p:cNvPicPr/>
          <p:nvPr/>
        </p:nvPicPr>
        <p:blipFill>
          <a:blip r:embed="rId1"/>
          <a:srcRect l="7745" t="13217" r="6971" b="21312"/>
          <a:stretch/>
        </p:blipFill>
        <p:spPr>
          <a:xfrm>
            <a:off x="15840" y="976320"/>
            <a:ext cx="9128160" cy="56070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4"/>
          <p:cNvSpPr/>
          <p:nvPr/>
        </p:nvSpPr>
        <p:spPr>
          <a:xfrm>
            <a:off x="2728800" y="174600"/>
            <a:ext cx="285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Cred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Right Arrow 5"/>
          <p:cNvGrpSpPr/>
          <p:nvPr/>
        </p:nvGrpSpPr>
        <p:grpSpPr>
          <a:xfrm>
            <a:off x="85680" y="1365120"/>
            <a:ext cx="676440" cy="506520"/>
            <a:chOff x="85680" y="1365120"/>
            <a:chExt cx="676440" cy="506520"/>
          </a:xfrm>
        </p:grpSpPr>
        <p:pic>
          <p:nvPicPr>
            <p:cNvPr id="409" name="Right Arrow 5" descr=""/>
            <p:cNvPicPr/>
            <p:nvPr/>
          </p:nvPicPr>
          <p:blipFill>
            <a:blip r:embed="rId2"/>
            <a:stretch/>
          </p:blipFill>
          <p:spPr>
            <a:xfrm>
              <a:off x="85680" y="1365120"/>
              <a:ext cx="6764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203040" y="1549440"/>
              <a:ext cx="3733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Right Arrow 6"/>
          <p:cNvGrpSpPr/>
          <p:nvPr/>
        </p:nvGrpSpPr>
        <p:grpSpPr>
          <a:xfrm>
            <a:off x="23760" y="2023920"/>
            <a:ext cx="671400" cy="506520"/>
            <a:chOff x="23760" y="2023920"/>
            <a:chExt cx="671400" cy="506520"/>
          </a:xfrm>
        </p:grpSpPr>
        <p:pic>
          <p:nvPicPr>
            <p:cNvPr id="412" name="Right Arrow 6" descr=""/>
            <p:cNvPicPr/>
            <p:nvPr/>
          </p:nvPicPr>
          <p:blipFill>
            <a:blip r:embed="rId3"/>
            <a:stretch/>
          </p:blipFill>
          <p:spPr>
            <a:xfrm>
              <a:off x="23760" y="2023920"/>
              <a:ext cx="67140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38240" y="2209680"/>
              <a:ext cx="3729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Right Arrow 7"/>
          <p:cNvGrpSpPr/>
          <p:nvPr/>
        </p:nvGrpSpPr>
        <p:grpSpPr>
          <a:xfrm>
            <a:off x="85680" y="3286080"/>
            <a:ext cx="676440" cy="511200"/>
            <a:chOff x="85680" y="3286080"/>
            <a:chExt cx="676440" cy="511200"/>
          </a:xfrm>
        </p:grpSpPr>
        <p:pic>
          <p:nvPicPr>
            <p:cNvPr id="415" name="Right Arrow 7" descr=""/>
            <p:cNvPicPr/>
            <p:nvPr/>
          </p:nvPicPr>
          <p:blipFill>
            <a:blip r:embed="rId4"/>
            <a:stretch/>
          </p:blipFill>
          <p:spPr>
            <a:xfrm>
              <a:off x="85680" y="3286080"/>
              <a:ext cx="67644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203040" y="3471840"/>
              <a:ext cx="3733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Right Arrow 8"/>
          <p:cNvGrpSpPr/>
          <p:nvPr/>
        </p:nvGrpSpPr>
        <p:grpSpPr>
          <a:xfrm>
            <a:off x="85680" y="4675320"/>
            <a:ext cx="676440" cy="506160"/>
            <a:chOff x="85680" y="4675320"/>
            <a:chExt cx="676440" cy="506160"/>
          </a:xfrm>
        </p:grpSpPr>
        <p:pic>
          <p:nvPicPr>
            <p:cNvPr id="418" name="Right Arrow 8" descr=""/>
            <p:cNvPicPr/>
            <p:nvPr/>
          </p:nvPicPr>
          <p:blipFill>
            <a:blip r:embed="rId5"/>
            <a:stretch/>
          </p:blipFill>
          <p:spPr>
            <a:xfrm>
              <a:off x="85680" y="4675320"/>
              <a:ext cx="67644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03040" y="4859280"/>
              <a:ext cx="3733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3:20:05Z</dcterms:created>
  <dc:creator>Joanne Rowe</dc:creator>
  <dc:description/>
  <dc:language>en-US</dc:language>
  <cp:lastModifiedBy>Joanne Rowe</cp:lastModifiedBy>
  <dcterms:modified xsi:type="dcterms:W3CDTF">2013-12-16T06:19:35Z</dcterms:modified>
  <cp:revision>19</cp:revision>
  <dc:subject/>
  <dc:title>iMovie Tips</dc:title>
</cp:coreProperties>
</file>